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087F-C596-4329-B2F8-63F98512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7C4A-8DE1-4243-954E-E32A8000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016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109E-E61C-442A-808A-E4C02C8AC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836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600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836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600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DB34-06FC-4282-BDC7-2583DFE44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2DA0-5A9D-4D70-9700-8F5B49496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C49F-0231-4470-AFE8-F0481723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8414-55DB-4B56-8F3D-CC975C6F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2900-72B6-4379-9EFB-2834F64F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9974-8A8C-4C82-97FF-5BFE5D8A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76212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5CC4-7652-4E99-8B13-14B963EA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EA1F-D76C-4BCE-AD3E-BEB18B9F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E63F-566B-43D9-9924-B07FE17E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016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567E-22FA-447B-B5EF-B8E5BC90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13E8-73B3-4177-963F-48056236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E165-1ED0-47DF-BC81-40D0078F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016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D137-B9FC-4DF5-A103-6C3B5B002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836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8600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836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8600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078F-868D-46AD-BB53-F7AFBC1BD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3391-98B8-46AF-92FA-51AA562C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481F-20A1-4E81-8E1F-9C31DE4B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3DEA-AC95-46F0-8D60-1626D2A2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76212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7328-40FC-4F2B-BD19-1890A6B2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AC5B-534A-4BA2-B44C-63B6E9C2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016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7AF9-8A35-4702-9BDE-5E31685F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DD8D-2B2E-4D59-A608-46B79CB4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9B3D-B1AD-47E2-937A-BA0C9B4A3581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42AF-018A-426D-82A8-4B29022F902B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chitect"/>
              </a:rPr>
              <a:t>Stem and </a:t>
            </a:r>
            <a:br>
              <a:rPr sz="5400"/>
            </a:br>
            <a:r>
              <a:rPr b="1" lang="en-US" sz="5400" spc="-1" strike="noStrike" u="sng">
                <a:solidFill>
                  <a:srgbClr val="000000"/>
                </a:solidFill>
                <a:uFillTx/>
                <a:latin typeface="Architect"/>
              </a:rPr>
              <a:t>Leaf Plots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743200" y="838080"/>
            <a:ext cx="3813120" cy="2713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234360" y="3809880"/>
            <a:ext cx="1005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chitect"/>
              </a:rPr>
              <a:t>Are there any numbers in the 50s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chitect"/>
              </a:rPr>
              <a:t>the data set?     N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chitect"/>
              </a:rPr>
              <a:t>Not even 50?    No! That would b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chitect"/>
              </a:rPr>
              <a:t>represented with a 0 after the 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chitect"/>
              </a:rPr>
              <a:t>Stem and Leaf Plo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chitect"/>
              </a:rPr>
              <a:t>Distribution of a set of da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chitect"/>
              </a:rPr>
              <a:t>Can be used to determine minimum, maximum, mean, median, mode and outlier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chitect"/>
              </a:rPr>
              <a:t>Stem-and-leaf plots are a method for showing the frequency with which certain classes of values occ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693432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chitect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chitect"/>
              </a:rPr>
              <a:t>* Data set- any set of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chitect"/>
              </a:rPr>
              <a:t>* Distribution- values of the data and the frequency that each value occu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chitect"/>
              </a:rPr>
              <a:t>* Stem- all the digits of a number except its rightmost dig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chitect"/>
              </a:rPr>
              <a:t>* Leaf- the final (rightmost) digit of a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chitect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chitect"/>
              </a:rPr>
              <a:t>* Mean- the numeric aver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chitect"/>
              </a:rPr>
              <a:t>* Median- the middle valu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chitect"/>
              </a:rPr>
              <a:t>* Mode- the number that occurs the mo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chitect"/>
              </a:rPr>
              <a:t>* Minimum- the lowest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chitect"/>
              </a:rPr>
              <a:t>* Maximum- the highest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chitect"/>
              </a:rPr>
              <a:t>* Outliers- an unusually low or high value in the data s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chitect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chitect"/>
              </a:rPr>
              <a:t>Symmetric data set- a data set with a stem and leaf plot whose upper half is a mirror image of its lower half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chitect"/>
              </a:rPr>
              <a:t>Skewed data set- a data set that is not symmetric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chitect"/>
              </a:rPr>
              <a:t>Example: Create a Stem and Leaf Plot from the given data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chitect"/>
              </a:rPr>
              <a:t>Test scores on last week’s Algebra exam were:  56, 58, 74, 74, 78, 79, 80, 81, 84, 90, 92, 93, 93, 95, 9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38280" y="2233440"/>
            <a:ext cx="4419720" cy="3679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chitect"/>
              </a:rPr>
              <a:t>Create a list of values from the following stem and leaf plot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chitect"/>
              </a:rPr>
              <a:t>Answer: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4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3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600880" y="1676520"/>
            <a:ext cx="354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  <a:ea typeface="MS Pゴシック"/>
              </a:rPr>
              <a:t>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  <a:ea typeface="MS Pゴシック"/>
              </a:rPr>
              <a:t>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  <a:ea typeface="MS Pゴシック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  <a:ea typeface="MS Pゴシック"/>
              </a:rPr>
              <a:t>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  <a:ea typeface="MS Pゴシック"/>
              </a:rPr>
              <a:t>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1981080"/>
            <a:ext cx="3543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  <a:ea typeface="MS Pゴシック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  <a:ea typeface="MS Pゴシック"/>
              </a:rPr>
              <a:t>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  <a:ea typeface="MS Pゴシック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  <a:ea typeface="MS Pゴシック"/>
              </a:rPr>
              <a:t>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  <a:ea typeface="MS Pゴシック"/>
              </a:rPr>
              <a:t>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  <a:ea typeface="MS Pゴシック"/>
              </a:rPr>
              <a:t>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743200" y="838080"/>
            <a:ext cx="3813120" cy="2713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-402840" y="3960720"/>
            <a:ext cx="1005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chitect"/>
              </a:rPr>
              <a:t>What numbers are repeated in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chitect"/>
              </a:rPr>
              <a:t>data set, according to the stem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chitect"/>
              </a:rPr>
              <a:t>leaf plot above?     21, 37, and 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8:44:06Z</dcterms:created>
  <dc:creator>PA Department of Education</dc:creator>
  <dc:description/>
  <dc:language>en-US</dc:language>
  <cp:lastModifiedBy>Parkland High School</cp:lastModifiedBy>
  <cp:lastPrinted>2011-05-12T14:17:34Z</cp:lastPrinted>
  <dcterms:modified xsi:type="dcterms:W3CDTF">2011-05-12T14:17:39Z</dcterms:modified>
  <cp:revision>9</cp:revision>
  <dc:subject/>
  <dc:title>Stem and Leaf Plots</dc:title>
</cp:coreProperties>
</file>